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16A-AB4B-464D-AB43-7350904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11C-B59B-4E4C-A1AA-D000049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403-5AE9-4BB1-993D-4D08837F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9AC-697E-4353-AF31-29BA9FA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702-D0CA-4659-80D9-530C902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410-7666-4AFB-A5B5-9831583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FF4-D86D-4DF9-8A86-2DC9944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3B4-6F32-4BAC-8C4E-2CBC930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46D-B588-46D1-9A85-49EFEA3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32A-E677-4832-8464-39785CC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9A6-7DBB-4C32-861E-6CD08BB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950-25AA-4155-97D4-DBB3D82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4903-45E0-4E94-A449-E4D87217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Sta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ugust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- August 16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vocabulary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ate, abdic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duct, abe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124080"/>
            <a:ext cx="23623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666520" y="33523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42840" y="43434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095880" y="3123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2670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95480"/>
            <a:ext cx="1600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952880"/>
            <a:ext cx="19810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638680"/>
            <a:ext cx="236232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used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2819520"/>
            <a:ext cx="19810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72428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124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51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– August 17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only two pieces to form the same “shovel” with the “snow”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what changes you need to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7339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– August 18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e vocabulary from Monday if you have not finished.  If you have finished please study for the vocabulary test over the words on Friday.  You will be requir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ord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– August 19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 in the art work.  Write for 5 minutes.  Time yourselves and b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476440"/>
            <a:ext cx="38480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– August 20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ocabulary Quiz – Write the correct word in the sentence and then define the word correctly from the definitions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te, abdic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uct, abe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at differs from the n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, l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idnap, take b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up a position, usually one of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 In 1918, the Boston Red Sox won the World Series, but the success turned out to be an __________, and the Red Sox have not won a World Series si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  The rain poured down for a while, then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.  When he realized that the revolutionaries would surely win, the king _______________his thr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  The evildoers _______________ the fairy princess from her happy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erration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hat differs from the n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, l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up a position, usually one of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uc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idnap, take b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work called Woman in Temple by Marten Jan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57:03Z</dcterms:created>
  <dc:creator>e201000859</dc:creator>
  <dc:description/>
  <dc:language>en-US</dc:language>
  <cp:lastModifiedBy>e201000859</cp:lastModifiedBy>
  <dcterms:modified xsi:type="dcterms:W3CDTF">2010-08-13T18:34:32Z</dcterms:modified>
  <cp:revision>2</cp:revision>
  <dc:subject/>
  <dc:title>Daily Starters</dc:title>
</cp:coreProperties>
</file>